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B5E-8881-49F5-90B4-05252B7C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4D4-CFA8-4C08-B822-DFC7320C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7B7-EDAA-4530-AE01-70258FD8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411-2D7D-4F06-A5D6-A3EE7A41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D80-9AB2-400A-B1C9-C2B4E14E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DF7-2CC5-4542-8EDA-DE775796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2DB-2B97-4490-A051-4C8D276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1EE-3C33-468F-8A14-F96E905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E97-3000-456B-9CB7-4746E076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103-4344-4353-B4B7-F53B5CF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112-891E-401A-8CC4-E223F108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CDF-0082-40E6-ADE9-E5E4DBC4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C5F550A3-6E5A-49B8-9A41-33DEF02D0155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240" y="4876920"/>
            <a:ext cx="5791320" cy="1689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Alberi genealogici e </a:t>
            </a:r>
            <a:br>
              <a:rPr sz="4000"/>
            </a:b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loro interpretazione </a:t>
            </a:r>
            <a:br>
              <a:rPr sz="4000"/>
            </a:b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4062600" cy="3521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2760" y="67611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4892400" cy="3100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7760" y="5562720"/>
            <a:ext cx="463032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iti maschi abor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Dominante X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4316400" cy="362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75560" y="5362560"/>
            <a:ext cx="31658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4038480" cy="901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Recessiva X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440" y="2385720"/>
            <a:ext cx="8394840" cy="1235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ESERCIZ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85760" y="743040"/>
            <a:ext cx="2962440" cy="738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1520" y="2363760"/>
            <a:ext cx="3891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80040" y="23860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35160" y="2550960"/>
            <a:ext cx="304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595640" y="2386080"/>
            <a:ext cx="387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91160" y="255096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98280" y="2550960"/>
            <a:ext cx="180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65240" y="3841920"/>
            <a:ext cx="3873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69840" y="3828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54920" y="3786120"/>
            <a:ext cx="4129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60520" y="378612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8680" y="3044880"/>
            <a:ext cx="378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7500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6392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7020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58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98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442280" y="3786120"/>
            <a:ext cx="41256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147160" y="3786120"/>
            <a:ext cx="41256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37440" y="2550960"/>
            <a:ext cx="144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304488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532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1344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0696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58120" y="30448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960" y="5102280"/>
            <a:ext cx="4175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 marL="493560" indent="-49356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ipo di ereditarieta’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66400" y="5943600"/>
            <a:ext cx="6024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. Indica genotipo di ogni individu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176640" y="3811680"/>
            <a:ext cx="387360" cy="366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25800" y="38098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32360" y="3807000"/>
            <a:ext cx="387360" cy="366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689880" y="3805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91120" y="21600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177840" y="69343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98280" y="825480"/>
            <a:ext cx="4278600" cy="57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SERCIZIO 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75000" y="15238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843520" y="14810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6120" y="170496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56040" y="172872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2222640"/>
            <a:ext cx="378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68560" y="30448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670120" y="303372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245200" y="302112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67400" y="303372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78440" y="227016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8480" y="2233440"/>
            <a:ext cx="0" cy="74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65760" y="224640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43560" y="2233440"/>
            <a:ext cx="0" cy="74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736040" y="30448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83320" y="397512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24560" y="3233880"/>
            <a:ext cx="0" cy="137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13440" y="3209760"/>
            <a:ext cx="82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8332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716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1359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84960" y="4595760"/>
            <a:ext cx="411120" cy="40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905364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94840" y="4797360"/>
            <a:ext cx="64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23160" y="4819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52520" y="3030480"/>
            <a:ext cx="411120" cy="40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11160" y="3209760"/>
            <a:ext cx="82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220920"/>
            <a:ext cx="0" cy="137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1960" y="397512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998720" y="4606920"/>
            <a:ext cx="41256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3228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820960" y="4595760"/>
            <a:ext cx="411120" cy="40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258920" y="46083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57280" y="3986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62520" y="46083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19160" y="45846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8800" y="4775040"/>
            <a:ext cx="64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97120" y="48099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200" y="47750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5320" y="479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4120" y="5357880"/>
            <a:ext cx="35640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1240" y="5372280"/>
            <a:ext cx="35640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4680" y="5372280"/>
            <a:ext cx="356400" cy="4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440" y="6143760"/>
            <a:ext cx="3812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. Tipo di erediterieta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14680" y="6683400"/>
            <a:ext cx="76748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. Probabilita’ di figlio affetto nelle tre copp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983360" y="460836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09760" y="743040"/>
            <a:ext cx="3291120" cy="574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SERCIZIO 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507480" y="165420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60880" y="1677960"/>
            <a:ext cx="38736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56040" y="184644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525560" y="1868400"/>
            <a:ext cx="3240" cy="43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921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33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134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71612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92840" y="269244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5040" y="2881440"/>
            <a:ext cx="77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3020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1240" y="32925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1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61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14156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11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064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50676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25772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2005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76308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90392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9904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19520" y="3292560"/>
            <a:ext cx="166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89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9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3364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3364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3996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550240" y="460836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707160" y="2540160"/>
            <a:ext cx="41112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8469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5968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49296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147160" y="3786120"/>
            <a:ext cx="420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3245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33072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757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95840" y="3951360"/>
            <a:ext cx="87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92600" y="3868560"/>
            <a:ext cx="8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5952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85468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9288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99320" y="3986280"/>
            <a:ext cx="65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88400" y="400860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683560" y="472752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6960" y="5678640"/>
            <a:ext cx="251460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r= capelli ros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-= capelli scu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765520" y="573876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26160" y="5208480"/>
            <a:ext cx="495612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B: a meno che non ci siano prove del contrario, si sottintenda che gli individui che vengono dal di fuori non siano portatori dell’allele 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7920" y="1476360"/>
            <a:ext cx="67176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2560" y="1962000"/>
            <a:ext cx="2475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    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20" y="2633760"/>
            <a:ext cx="5745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440" y="3641760"/>
            <a:ext cx="657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1240" y="2962440"/>
            <a:ext cx="80647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           2                        3                    4                          5  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4114800"/>
            <a:ext cx="9464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2         3                           4            5             6                  7          8           9             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11160" y="4856040"/>
            <a:ext cx="68295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                                                   2     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7440" y="4537080"/>
            <a:ext cx="6336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495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27162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25920" y="279864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4348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9800" y="337500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9840" y="576360"/>
            <a:ext cx="4197600" cy="576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ESERCIZIO 3.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7040" y="18111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10160" y="2798640"/>
            <a:ext cx="144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58800" y="26924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9920" y="2881440"/>
            <a:ext cx="69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6512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2240" y="32925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24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17648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825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1180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2240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5820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75400" y="38685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4196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970840" y="400860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766000" y="472752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0360" y="1476360"/>
            <a:ext cx="67176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7320" y="1914480"/>
            <a:ext cx="28796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9440" y="2633760"/>
            <a:ext cx="576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40" y="3703680"/>
            <a:ext cx="658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87480" y="2881440"/>
            <a:ext cx="80661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2                         3             4                      5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120" y="4114800"/>
            <a:ext cx="92995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2      3                       4         5          6               7         8          9       10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1160" y="5070600"/>
            <a:ext cx="80647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  2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92160" y="444492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77280" y="444492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646280" y="3538440"/>
            <a:ext cx="7241760" cy="2854800"/>
            <a:chOff x="1646280" y="3538440"/>
            <a:chExt cx="7241760" cy="2854800"/>
          </a:xfrm>
        </p:grpSpPr>
        <p:sp>
          <p:nvSpPr>
            <p:cNvPr id="383" name=""/>
            <p:cNvSpPr/>
            <p:nvPr/>
          </p:nvSpPr>
          <p:spPr>
            <a:xfrm>
              <a:off x="1646280" y="3538440"/>
              <a:ext cx="658080" cy="905040"/>
            </a:xfrm>
            <a:custGeom>
              <a:avLst/>
              <a:gdLst>
                <a:gd name="textAreaLeft" fmla="*/ 32040 w 658080"/>
                <a:gd name="textAreaRight" fmla="*/ 626040 w 658080"/>
                <a:gd name="textAreaTop" fmla="*/ 32040 h 905040"/>
                <a:gd name="textAreaBottom" fmla="*/ 873000 h 905040"/>
              </a:gdLst>
              <a:ahLst/>
              <a:rect l="textAreaLeft" t="textAreaTop" r="textAreaRight" b="textAreaBottom"/>
              <a:pathLst>
                <a:path w="21600" h="29701">
                  <a:moveTo>
                    <a:pt x="3600" y="0"/>
                  </a:moveTo>
                  <a:arcTo wR="3600" hR="3600" stAng="16200000" swAng="-5400000"/>
                  <a:lnTo>
                    <a:pt x="0" y="26101"/>
                  </a:lnTo>
                  <a:arcTo wR="3600" hR="3600" stAng="10800000" swAng="-5400000"/>
                  <a:lnTo>
                    <a:pt x="18000" y="297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29960" y="3538440"/>
              <a:ext cx="658080" cy="905040"/>
            </a:xfrm>
            <a:custGeom>
              <a:avLst/>
              <a:gdLst>
                <a:gd name="textAreaLeft" fmla="*/ 32040 w 658080"/>
                <a:gd name="textAreaRight" fmla="*/ 626040 w 658080"/>
                <a:gd name="textAreaTop" fmla="*/ 32040 h 905040"/>
                <a:gd name="textAreaBottom" fmla="*/ 873000 h 905040"/>
              </a:gdLst>
              <a:ahLst/>
              <a:rect l="textAreaLeft" t="textAreaTop" r="textAreaRight" b="textAreaBottom"/>
              <a:pathLst>
                <a:path w="21600" h="29701">
                  <a:moveTo>
                    <a:pt x="3600" y="0"/>
                  </a:moveTo>
                  <a:arcTo wR="3600" hR="3600" stAng="16200000" swAng="-5400000"/>
                  <a:lnTo>
                    <a:pt x="0" y="26101"/>
                  </a:lnTo>
                  <a:arcTo wR="3600" hR="3600" stAng="10800000" swAng="-5400000"/>
                  <a:lnTo>
                    <a:pt x="18000" y="297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74960" y="5760720"/>
              <a:ext cx="658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-49320" bIns="-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62240" y="5760720"/>
              <a:ext cx="39168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65240" y="4537080"/>
            <a:ext cx="5760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25920" y="181116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56000" y="825480"/>
            <a:ext cx="3703680" cy="57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3.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7040" y="18111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11600" y="279864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92840" y="269244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5040" y="2881440"/>
            <a:ext cx="90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4136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8800" y="3292560"/>
            <a:ext cx="12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2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15236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0012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41180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22400" y="3951360"/>
            <a:ext cx="0" cy="65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458200" y="3330720"/>
            <a:ext cx="0" cy="45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75400" y="3868560"/>
            <a:ext cx="90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41960" y="3951360"/>
            <a:ext cx="0" cy="66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970840" y="4008600"/>
            <a:ext cx="0" cy="59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8766000" y="46083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6680" y="1504800"/>
            <a:ext cx="6271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49560" y="1892160"/>
            <a:ext cx="2057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440" y="2657520"/>
            <a:ext cx="6588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I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440" y="3727440"/>
            <a:ext cx="7398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II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2240" y="2881440"/>
            <a:ext cx="88059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2                       3              4                      5  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5240" y="4114800"/>
            <a:ext cx="9545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2      3                       4          5         6               7          8         9              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56000" y="3646440"/>
            <a:ext cx="584280" cy="879480"/>
          </a:xfrm>
          <a:custGeom>
            <a:avLst/>
            <a:gdLst>
              <a:gd name="textAreaLeft" fmla="*/ 28440 w 584280"/>
              <a:gd name="textAreaRight" fmla="*/ 555840 w 584280"/>
              <a:gd name="textAreaTop" fmla="*/ 28440 h 879480"/>
              <a:gd name="textAreaBottom" fmla="*/ 851040 h 879480"/>
            </a:gdLst>
            <a:ahLst/>
            <a:rect l="textAreaLeft" t="textAreaTop" r="textAreaRight" b="textAreaBottom"/>
            <a:pathLst>
              <a:path w="21600" h="32506">
                <a:moveTo>
                  <a:pt x="3600" y="0"/>
                </a:moveTo>
                <a:arcTo wR="3600" hR="3600" stAng="16200000" swAng="-5400000"/>
                <a:lnTo>
                  <a:pt x="0" y="28906"/>
                </a:lnTo>
                <a:arcTo wR="3600" hR="3600" stAng="10800000" swAng="-5400000"/>
                <a:lnTo>
                  <a:pt x="18000" y="32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245520" y="3646440"/>
            <a:ext cx="582840" cy="87948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879480"/>
              <a:gd name="textAreaBottom" fmla="*/ 851040 h 879480"/>
            </a:gdLst>
            <a:ahLst/>
            <a:rect l="textAreaLeft" t="textAreaTop" r="textAreaRight" b="textAreaBottom"/>
            <a:pathLst>
              <a:path w="21600" h="32587">
                <a:moveTo>
                  <a:pt x="3600" y="0"/>
                </a:moveTo>
                <a:arcTo wR="3600" hR="3600" stAng="16200000" swAng="-5400000"/>
                <a:lnTo>
                  <a:pt x="0" y="28987"/>
                </a:lnTo>
                <a:arcTo wR="3600" hR="3600" stAng="10800000" swAng="-5400000"/>
                <a:lnTo>
                  <a:pt x="18000" y="32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47960" y="452592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47960" y="5695920"/>
            <a:ext cx="583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583560" y="452592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83520" y="5697360"/>
            <a:ext cx="391680" cy="63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22640" y="5070600"/>
            <a:ext cx="72421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      2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4565520"/>
            <a:ext cx="5763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V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08360" y="181116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633400" y="743040"/>
            <a:ext cx="37861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3.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7040" y="184644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62640" y="279864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92840" y="269244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05040" y="288144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3516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6360" y="3292560"/>
            <a:ext cx="131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63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04616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35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36248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240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5820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75400" y="38685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4196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970840" y="4032360"/>
            <a:ext cx="0" cy="55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8766000" y="458640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5600" y="1531800"/>
            <a:ext cx="65628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fffc11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75000" y="1892160"/>
            <a:ext cx="27972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1080" y="2682720"/>
            <a:ext cx="76464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en-US" sz="2200" spc="-1" strike="noStrike">
                <a:solidFill>
                  <a:srgbClr val="fffc11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1440" y="3753000"/>
            <a:ext cx="8730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en-US" sz="2200" spc="-1" strike="noStrike">
                <a:solidFill>
                  <a:srgbClr val="fffc11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240" y="2881440"/>
            <a:ext cx="7655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2                      3             4                       5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4120" y="4114800"/>
            <a:ext cx="93823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2       3                         4          5         6               7          8         9             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22640" y="4946760"/>
            <a:ext cx="7488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2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550960" y="4444920"/>
            <a:ext cx="3949200" cy="1967400"/>
            <a:chOff x="2550960" y="4444920"/>
            <a:chExt cx="3949200" cy="1967400"/>
          </a:xfrm>
        </p:grpSpPr>
        <p:sp>
          <p:nvSpPr>
            <p:cNvPr id="523" name=""/>
            <p:cNvSpPr/>
            <p:nvPr/>
          </p:nvSpPr>
          <p:spPr>
            <a:xfrm>
              <a:off x="2797560" y="5349600"/>
              <a:ext cx="0" cy="4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550960" y="4444920"/>
              <a:ext cx="3949200" cy="1967400"/>
              <a:chOff x="2550960" y="4444920"/>
              <a:chExt cx="3949200" cy="1967400"/>
            </a:xfrm>
          </p:grpSpPr>
          <p:sp>
            <p:nvSpPr>
              <p:cNvPr id="525" name=""/>
              <p:cNvSpPr/>
              <p:nvPr/>
            </p:nvSpPr>
            <p:spPr>
              <a:xfrm>
                <a:off x="6171120" y="5349600"/>
                <a:ext cx="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49320" bIns="49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50960" y="4444920"/>
                <a:ext cx="658080" cy="904680"/>
              </a:xfrm>
              <a:custGeom>
                <a:avLst/>
                <a:gdLst>
                  <a:gd name="textAreaLeft" fmla="*/ 32040 w 658080"/>
                  <a:gd name="textAreaRight" fmla="*/ 626040 w 658080"/>
                  <a:gd name="textAreaTop" fmla="*/ 32040 h 904680"/>
                  <a:gd name="textAreaBottom" fmla="*/ 872640 h 904680"/>
                </a:gdLst>
                <a:ahLst/>
                <a:rect l="textAreaLeft" t="textAreaTop" r="textAreaRight" b="textAreaBottom"/>
                <a:pathLst>
                  <a:path w="21600" h="29690">
                    <a:moveTo>
                      <a:pt x="3600" y="0"/>
                    </a:moveTo>
                    <a:arcTo wR="3600" hR="3600" stAng="16200000" swAng="-5400000"/>
                    <a:lnTo>
                      <a:pt x="0" y="26090"/>
                    </a:lnTo>
                    <a:arcTo wR="3600" hR="3600" stAng="10800000" swAng="-5400000"/>
                    <a:lnTo>
                      <a:pt x="18000" y="29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41720" y="4444920"/>
                <a:ext cx="658440" cy="904680"/>
              </a:xfrm>
              <a:custGeom>
                <a:avLst/>
                <a:gdLst>
                  <a:gd name="textAreaLeft" fmla="*/ 32040 w 658440"/>
                  <a:gd name="textAreaRight" fmla="*/ 626400 w 658440"/>
                  <a:gd name="textAreaTop" fmla="*/ 32040 h 904680"/>
                  <a:gd name="textAreaBottom" fmla="*/ 872640 h 904680"/>
                </a:gdLst>
                <a:ahLst/>
                <a:rect l="textAreaLeft" t="textAreaTop" r="textAreaRight" b="textAreaBottom"/>
                <a:pathLst>
                  <a:path w="21600" h="29673">
                    <a:moveTo>
                      <a:pt x="3600" y="0"/>
                    </a:moveTo>
                    <a:arcTo wR="3600" hR="3600" stAng="16200000" swAng="-5400000"/>
                    <a:lnTo>
                      <a:pt x="0" y="26073"/>
                    </a:lnTo>
                    <a:arcTo wR="3600" hR="3600" stAng="10800000" swAng="-5400000"/>
                    <a:lnTo>
                      <a:pt x="18000" y="2967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97560" y="5761080"/>
                <a:ext cx="337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640" rIns="98640" tIns="-49320" bIns="-49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861800" y="5779800"/>
                <a:ext cx="391680" cy="63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8640" rIns="98640" tIns="49320" bIns="493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87480"/>
                    <a:tab algn="l" pos="1974960"/>
                    <a:tab algn="l" pos="2962440"/>
                    <a:tab algn="l" pos="3949560"/>
                    <a:tab algn="l" pos="4937040"/>
                    <a:tab algn="l" pos="5924520"/>
                    <a:tab algn="l" pos="6912000"/>
                    <a:tab algn="l" pos="7899480"/>
                    <a:tab algn="l" pos="8886960"/>
                    <a:tab algn="l" pos="9874080"/>
                    <a:tab algn="l" pos="10861560"/>
                  </a:tabLst>
                </a:pPr>
                <a:r>
                  <a:rPr b="0" lang="en-US" sz="3500" spc="-1" strike="noStrike">
                    <a:solidFill>
                      <a:srgbClr val="ff0b07"/>
                    </a:solidFill>
                    <a:latin typeface="Comic Sans MS"/>
                  </a:rPr>
                  <a:t>?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-360" y="4591080"/>
            <a:ext cx="64728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25920" y="1892160"/>
            <a:ext cx="0" cy="41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22400" y="3181320"/>
            <a:ext cx="9753120" cy="4186800"/>
            <a:chOff x="122400" y="3181320"/>
            <a:chExt cx="9753120" cy="4186800"/>
          </a:xfrm>
        </p:grpSpPr>
        <p:sp>
          <p:nvSpPr>
            <p:cNvPr id="534" name=""/>
            <p:cNvSpPr/>
            <p:nvPr/>
          </p:nvSpPr>
          <p:spPr>
            <a:xfrm>
              <a:off x="137880" y="5430240"/>
              <a:ext cx="1728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II3, Rr)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2400" y="5810760"/>
              <a:ext cx="4102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(IV1, Rr)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r>
                <a:rPr b="0" lang="en-US" sz="15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/2*1/2 + 1/2*2/3  =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7/1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08720" y="3419640"/>
              <a:ext cx="767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27800" y="3181320"/>
              <a:ext cx="104544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25600" y="4602240"/>
              <a:ext cx="1767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</a:t>
              </a: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(1*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*1/2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2/3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81720" y="3455280"/>
              <a:ext cx="1974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/Rr</a:t>
              </a:r>
              <a:r>
                <a:rPr b="0" lang="en-US" sz="17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74240" y="3455280"/>
              <a:ext cx="2304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/ 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1280" y="4602240"/>
              <a:ext cx="2144880" cy="9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*1/2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/2*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1/2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1/2*1/2*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2/3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4360" y="6335640"/>
              <a:ext cx="4010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(III4)= P(III6) = P(III7) =</a:t>
              </a: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6dc0d"/>
                  </a:solidFill>
                  <a:latin typeface="Comic Sans MS"/>
                </a:rPr>
                <a:t>RR (1/2),</a:t>
              </a:r>
              <a:r>
                <a:rPr b="0" lang="en-US" sz="17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Rr (1/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41880" y="6911280"/>
              <a:ext cx="6583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(IV2, Rr) =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/2*1/2*1/2 + 1/2*1/2*1/2+ 1/2*1/2*2/3)</a:t>
              </a:r>
              <a:r>
                <a:rPr b="0" lang="en-US" sz="1600" spc="-1" strike="noStrike">
                  <a:solidFill>
                    <a:srgbClr val="fffc11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= 5/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04320" y="6186240"/>
              <a:ext cx="4471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3120" rIns="213120" tIns="106560" bIns="106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P complessiva = 7/12*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5/12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*</a:t>
              </a:r>
              <a:r>
                <a:rPr b="0" lang="en-US" sz="1700" spc="-1" strike="noStrike">
                  <a:solidFill>
                    <a:srgbClr val="3333cc"/>
                  </a:solidFill>
                  <a:latin typeface="Comic Sans MS"/>
                </a:rPr>
                <a:t>1/4</a:t>
              </a:r>
              <a:r>
                <a:rPr b="0" lang="en-US" sz="1700" spc="-1" strike="noStrike">
                  <a:solidFill>
                    <a:srgbClr val="ff0b07"/>
                  </a:solidFill>
                  <a:latin typeface="Comic Sans MS"/>
                </a:rPr>
                <a:t> = </a:t>
              </a:r>
              <a:r>
                <a:rPr b="0" lang="en-US" sz="1900" spc="-1" strike="noStrike">
                  <a:solidFill>
                    <a:srgbClr val="ff0b07"/>
                  </a:solidFill>
                  <a:latin typeface="Comic Sans MS"/>
                </a:rPr>
                <a:t>35/57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4880" y="825480"/>
            <a:ext cx="3703680" cy="573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SERCIZIO  3.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550960" y="4525920"/>
            <a:ext cx="6748200" cy="2476440"/>
            <a:chOff x="2550960" y="4525920"/>
            <a:chExt cx="6748200" cy="2476440"/>
          </a:xfrm>
        </p:grpSpPr>
        <p:sp>
          <p:nvSpPr>
            <p:cNvPr id="552" name=""/>
            <p:cNvSpPr/>
            <p:nvPr/>
          </p:nvSpPr>
          <p:spPr>
            <a:xfrm>
              <a:off x="2550960" y="4525920"/>
              <a:ext cx="613080" cy="79848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798480"/>
                <a:gd name="textAreaBottom" fmla="*/ 768600 h 798480"/>
              </a:gdLst>
              <a:ahLst/>
              <a:rect l="textAreaLeft" t="textAreaTop" r="textAreaRight" b="textAreaBottom"/>
              <a:pathLst>
                <a:path w="21600" h="28128">
                  <a:moveTo>
                    <a:pt x="3600" y="0"/>
                  </a:moveTo>
                  <a:arcTo wR="3600" hR="3600" stAng="16200000" swAng="-5400000"/>
                  <a:lnTo>
                    <a:pt x="0" y="24528"/>
                  </a:lnTo>
                  <a:arcTo wR="3600" hR="3600" stAng="10800000" swAng="-5400000"/>
                  <a:lnTo>
                    <a:pt x="18000" y="28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86080" y="4525920"/>
              <a:ext cx="613080" cy="79848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798480"/>
                <a:gd name="textAreaBottom" fmla="*/ 768600 h 798480"/>
              </a:gdLst>
              <a:ahLst/>
              <a:rect l="textAreaLeft" t="textAreaTop" r="textAreaRight" b="textAreaBottom"/>
              <a:pathLst>
                <a:path w="21600" h="28128">
                  <a:moveTo>
                    <a:pt x="3600" y="0"/>
                  </a:moveTo>
                  <a:arcTo wR="3600" hR="3600" stAng="16200000" swAng="-5400000"/>
                  <a:lnTo>
                    <a:pt x="0" y="24528"/>
                  </a:lnTo>
                  <a:arcTo wR="3600" hR="3600" stAng="10800000" swAng="-5400000"/>
                  <a:lnTo>
                    <a:pt x="18000" y="28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57320" y="5324400"/>
              <a:ext cx="0" cy="11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857320" y="6486480"/>
              <a:ext cx="613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-49320" bIns="-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992800" y="5324400"/>
              <a:ext cx="0" cy="11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26080" y="6369840"/>
              <a:ext cx="39168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440" y="82440"/>
            <a:ext cx="777960" cy="8715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890280" y="209520"/>
            <a:ext cx="246276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2240" y="658800"/>
            <a:ext cx="8805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591000" y="165420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142960" y="1677960"/>
            <a:ext cx="3870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7040" y="1811160"/>
            <a:ext cx="106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10160" y="2798640"/>
            <a:ext cx="144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74960" y="2293920"/>
            <a:ext cx="502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6120" y="230508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798560" y="271620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58800" y="26924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069920" y="2881440"/>
            <a:ext cx="69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82680" y="2881440"/>
            <a:ext cx="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1240" y="329256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21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4124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093680" y="3703680"/>
            <a:ext cx="387360" cy="3668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69380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0012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588480" y="37036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411800" y="370368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283360" y="370368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825000" y="2575080"/>
            <a:ext cx="41148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965840" y="258768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0960" y="2774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00520" y="3292560"/>
            <a:ext cx="16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7056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00520" y="329256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16080" y="38685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16080" y="395136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22400" y="3892680"/>
            <a:ext cx="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633760" y="460836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788880" y="2540160"/>
            <a:ext cx="411480" cy="401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29720" y="255096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42120" y="271620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597800" y="2716200"/>
            <a:ext cx="1440" cy="10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6575400" y="3741840"/>
            <a:ext cx="41112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8228880" y="3786120"/>
            <a:ext cx="420840" cy="40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407360" y="3741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8160" y="3330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45820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160" y="3330720"/>
            <a:ext cx="0" cy="4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78640" y="3951360"/>
            <a:ext cx="87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75400" y="386856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41960" y="3902040"/>
            <a:ext cx="0" cy="71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937120" y="462132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9369360" y="3822840"/>
            <a:ext cx="387360" cy="366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682120" y="39862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983800" y="4032360"/>
            <a:ext cx="0" cy="57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8780400" y="4614840"/>
            <a:ext cx="387360" cy="366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0360" y="1476360"/>
            <a:ext cx="67176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75000" y="1892160"/>
            <a:ext cx="246852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440" y="2633760"/>
            <a:ext cx="576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7960" y="3699000"/>
            <a:ext cx="8881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II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87480" y="2881440"/>
            <a:ext cx="80661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2                        3               4                      5              6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8680" y="4114800"/>
            <a:ext cx="93819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2      3                       4         5          6               7          8           9         10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360" y="4537080"/>
            <a:ext cx="63360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3236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25920" y="1811160"/>
            <a:ext cx="0" cy="4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96240" y="23050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33760" y="4938840"/>
            <a:ext cx="69134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1                                           2                                    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343400" y="2160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77840" y="701028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30400" y="1600200"/>
            <a:ext cx="64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CONCETTI CHE SI RIFERISCONO ALLA MODALI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TRAS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920" y="2514600"/>
            <a:ext cx="78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DOVUTI ALL’INTERAZIONE DEL PRODOTTO DEI SING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 CON L’AMBIENTE E IL BACKGROUND GENETICO DEL SING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32920" y="3733920"/>
            <a:ext cx="74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APPLICANO PERCIO’ ALLA POPOLAZIONE NON ALL’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8920" y="4343400"/>
            <a:ext cx="72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GENETICA UMANA E’ FORSE L’ULTIMA DISCIPLINA CHE V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A AD UNA POPOLAZIONE NATU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1000" y="5410080"/>
            <a:ext cx="79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LIVELLO DI POPOLAZIONE MEGLIO PARLARE DI LOCUS:  IL 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 ASSUME SIGNIFICATI DIVERSI A SECONDA DEL TI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INDA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00600" y="609120"/>
            <a:ext cx="451656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ominanza e recessiv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05000" y="1219320"/>
            <a:ext cx="5786280" cy="266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0080" y="4159080"/>
            <a:ext cx="8227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persona affetta ha almeno un genito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9320" y="4616280"/>
            <a:ext cx="4814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colpiti entrambi 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1920" y="5149800"/>
            <a:ext cx="5303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trasmessa da entrambi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9800" y="5607000"/>
            <a:ext cx="783612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iglio di un affetto ha il 50% di probabi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esse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65720" y="6445080"/>
            <a:ext cx="61344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ndo che il genitore affetto sia eterozig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he di solito e’ vero per le forme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05160" y="457200"/>
            <a:ext cx="413532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utosomica domin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94160" y="1832040"/>
            <a:ext cx="3621240" cy="3281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8680" y="1984320"/>
            <a:ext cx="47109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individui affetti di sol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figli di non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840" y="2975040"/>
            <a:ext cx="5001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egli affett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lito sono portatori non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6920" y="3889440"/>
            <a:ext cx="455724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mentata incidenz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anguine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0840" y="4803840"/>
            <a:ext cx="4656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colpiti entrambi i s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3400" y="5489640"/>
            <a:ext cx="7486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ascun figlio successivo all’affetto ha il 25%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abilita’ di esse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685800"/>
            <a:ext cx="436392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Autosomica reces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49680" y="1058760"/>
            <a:ext cx="4505400" cy="306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6120" y="1832040"/>
            <a:ext cx="47415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fetti quasi esclu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440" y="5102280"/>
            <a:ext cx="5814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 possono essere affet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4400" y="5559480"/>
            <a:ext cx="71438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il padre e’ affetto e la madre eterozig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7640" y="6016680"/>
            <a:ext cx="8168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marL="423720" indent="-423720">
              <a:lnSpc>
                <a:spcPct val="7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l’inattivazione del cromosoma X non e’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9680" y="2666880"/>
            <a:ext cx="40010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tori di solito s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i,la madre anch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tatrice puo’ ess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into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3971880"/>
            <a:ext cx="45205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 stato di portatrice d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dre e’ certo se ha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parenti maschi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9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43200" y="685440"/>
            <a:ext cx="3525840" cy="78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e2c02"/>
                </a:solidFill>
                <a:latin typeface="Comic Sans MS"/>
              </a:rPr>
              <a:t>Recessiva X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0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89280" y="914400"/>
            <a:ext cx="6431040" cy="341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438280"/>
            <a:ext cx="204012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f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ambi i ses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u’ spes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fem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0960" y="4519440"/>
            <a:ext cx="72777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figli di una donna affetta hanno il 5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essere affetti,  indipendentemente dal s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5586480"/>
            <a:ext cx="8435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maschio affetto avra’ tutte le figlie affette e tu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figli s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35258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e2c02"/>
                </a:solidFill>
                <a:latin typeface="Comic Sans MS"/>
              </a:rPr>
              <a:t>Dominante X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5813640" cy="281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5800" y="4495680"/>
            <a:ext cx="3769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pisce solo i mas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5181480"/>
            <a:ext cx="6629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aschi affetti hanno il padre af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2000" y="5791320"/>
            <a:ext cx="8001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ti i figli maschi di un uomo affetto sono aff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19256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e2c02"/>
                </a:solidFill>
                <a:latin typeface="Comic Sans MS"/>
              </a:rPr>
              <a:t>Y 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97520" y="5486400"/>
            <a:ext cx="7121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vata frequenza dell’allele reces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49640" y="2209680"/>
            <a:ext cx="5116320" cy="3121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187880" y="3057480"/>
            <a:ext cx="2117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</a:t>
            </a: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r>
              <a:rPr b="1" lang="en-US" sz="13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1680" y="3833640"/>
            <a:ext cx="82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 A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26760" y="383364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8080" y="3821040"/>
            <a:ext cx="403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90400" y="3833640"/>
            <a:ext cx="744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OO  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6680" y="4573440"/>
            <a:ext cx="3128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AO    AA     AO   OO           AO    OO   O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134640" cy="749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Complicazione dei principali modelli di ereditariet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91120" y="76320"/>
            <a:ext cx="487656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logiche (quinquennale)   Genetica Umana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206640" y="662940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by 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01840" y="1676520"/>
            <a:ext cx="5361120" cy="3541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59440" y="5638680"/>
            <a:ext cx="37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 : Nanismo acondropla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322092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d020a"/>
                </a:solidFill>
                <a:latin typeface="Comic Sans MS"/>
              </a:rPr>
              <a:t>Nuova m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2-15T17:16:12Z</dcterms:modified>
  <cp:revision>322</cp:revision>
  <dc:subject/>
  <dc:title>Geen diatitel</dc:title>
</cp:coreProperties>
</file>